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11A4-0A8C-481F-810F-8BE4AD7A6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9345-0162-449C-83DC-8C4349D5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1D27-6D63-47BB-A268-AC3DF15B2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3AEC-4B2F-4494-877E-E95814BC3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B384-532E-4021-96A6-81A969F8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F095-923F-4F4E-A5E0-58A151BD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4CFE-4D80-46CA-845D-D9C12B3B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A532-2390-4CA5-9EF1-BF0ED352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F280-9A0D-43A2-88E1-F3A48D3D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B7A2-6752-40C9-A14F-9C3891B6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A169-4997-4630-A2D9-7D085969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CCD4-09EB-41E3-92B1-4A83D55C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6E48-1201-4A87-B108-57973F3F9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1066680"/>
            <a:ext cx="7772400" cy="25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GIZ</a:t>
            </a:r>
            <a:br>
              <a:rPr sz="4400"/>
            </a:br>
            <a:r>
              <a:rPr b="1" lang="sr-Latn-CS" sz="4400" spc="-1" strike="noStrike">
                <a:solidFill>
                  <a:srgbClr val="a50021"/>
                </a:solidFill>
                <a:latin typeface="Arial"/>
              </a:rPr>
              <a:t>Profesionalna orijentacija na prelasku u srednju ško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44197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odeli implementacije programa profesionalne orijent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Modeli implementaci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Krukulum: 7. i 8. razred – nastava profesionalne orijent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Interdisciplinarno/kroskurikularno – integrisana u nastavne predm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PO u okviru projek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a50021"/>
                </a:solidFill>
                <a:latin typeface="Arial"/>
              </a:rPr>
              <a:t>Kurikul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amostalan predmet se više ce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O u toku godine sa jednim časom nedeljno omogućava primenu petofaznog mode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napredjuje se I razvija lična, predmetna I metodička kompetenci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čenici doživljavaju aktivnu nast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tvoreni vidovi uče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bezbedjena primena vežb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ljučne kompetencije se prenose na efikasan nač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nažnije otvaranje škole prema spoljnjem svetu – realni susre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Mogućnost organizacije realnih susr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Transparentnost o zbivanjima u nastavi za roditelje/staratel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Manje posla oko koordinac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oditelji/staratelji prepoznaju dobit za decu kroz pripremu za buduće zanimanje I školova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cesno praćenj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a50021"/>
                </a:solidFill>
                <a:latin typeface="Arial"/>
              </a:rPr>
              <a:t>Interdisciplinarno/kroskurikularno – integrisana u nastavne predm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U </a:t>
            </a:r>
            <a:r>
              <a:rPr b="0" lang="sr-CS" sz="2000" spc="-1" strike="noStrike">
                <a:solidFill>
                  <a:srgbClr val="a50021"/>
                </a:solidFill>
                <a:latin typeface="Arial"/>
              </a:rPr>
              <a:t>7.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i</a:t>
            </a:r>
            <a:r>
              <a:rPr b="0" lang="sr-CS" sz="2000" spc="-1" strike="noStrike">
                <a:solidFill>
                  <a:srgbClr val="a50021"/>
                </a:solidFill>
                <a:latin typeface="Arial"/>
              </a:rPr>
              <a:t> 8.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razredu integriš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se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sa</a:t>
            </a:r>
            <a:r>
              <a:rPr b="0" lang="sr-CS" sz="2000" spc="-1" strike="noStrike">
                <a:solidFill>
                  <a:srgbClr val="a50021"/>
                </a:solidFill>
                <a:latin typeface="Arial"/>
              </a:rPr>
              <a:t> 30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časova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PO u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predmet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I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predaj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se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interdisciplina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Odlik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nje prepoznavanje značaja PO za nastavnike, roditelje/staratelje I eksterne školske partn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iše posla oko koordin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nja orijentisanost prema nastavnom pla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težana realizacija petofaznog modela u prak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dostatak kontinuiteta za razvoj kompetencije orijent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dovoljno vežbi sa primenom različitih met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eže otvaranje škole iz organizacionih razlo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nja mogućnost za sprovodjenje realnih susr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dostatak transparentnosti za roditelje/staratel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odatni časovi za ostvarivanje realnih susr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a50021"/>
                </a:solidFill>
                <a:latin typeface="Arial"/>
              </a:rPr>
              <a:t>PO u okviru projek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nje se opaža značaj PO kao doprinos životnoj orijentac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trebno je još termina od jednog ( školska godina ) za projek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mena petofazng modela može duže da tr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mpetencija orijentacije može da se razvija I unapredju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mena otvorenih vidova učenja postoji ali nedostaje kontinuit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tvaranje škole prema spolja zavisi od strukture projek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ći poslovi koordin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odatni časovi za realne susrete u 7. I 8. razr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alno ostvarljivo u praksi - potvrdjuje iskustvo iz pilot projek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153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Koordinator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0" y="1143000"/>
          <a:ext cx="914400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43000"/>
                    <a:ext cx="9144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153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Kompetencij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k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oordinator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a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04920" y="1143000"/>
          <a:ext cx="861048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143000"/>
                    <a:ext cx="86104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Mala </a:t>
            </a:r>
            <a:r>
              <a:rPr b="0" lang="sr-Latn-CS" sz="4000" spc="-1" strike="noStrike">
                <a:solidFill>
                  <a:srgbClr val="a50021"/>
                </a:solidFill>
                <a:latin typeface="Arial"/>
              </a:rPr>
              <a:t>pomoć prijatelja</a:t>
            </a: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438280"/>
            <a:ext cx="8229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akultativni pred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jekat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asovi odeljenjske zajednice za učenike/ce 7. I 8. razr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alizacija kroz 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asovi slobodnih vannastavnih aktivnosti uče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a50021"/>
                </a:solidFill>
                <a:latin typeface="Arial"/>
              </a:rPr>
              <a:t>Vaš predlog</a:t>
            </a: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 j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WINDOWS XP</cp:lastModifiedBy>
  <dcterms:modified xsi:type="dcterms:W3CDTF">2011-10-04T13:20:40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